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C53-9561-416A-BF68-07E7149F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8B51-663B-49D8-96B9-74590C81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FD8-859E-4937-8702-BF3883F4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C53-2B3D-4CF0-A083-85066C1D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6E84-D608-47A1-BE80-A3B73568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F00-F935-4ED3-8F95-A4E1AE8B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386-2889-452C-BFF9-CD2DC225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E7C-2B5F-4180-80A7-72AF6B3F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F2BE-A732-4AA8-87D4-935F68BB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2CE-F0AB-4BEE-9E89-3F308449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B49-67F1-4271-A9E1-84684C7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5F8C-0792-444D-9FFC-19699DE6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F263-513F-4D49-B18E-A4890F9AC4A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Qu’est-ce que c’est en ang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1206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219640" y="206064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z g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é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im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2060640"/>
            <a:ext cx="360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ye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n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orei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 déf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co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 p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630864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6381720"/>
            <a:ext cx="698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reated by H. Butter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’est qu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667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9152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énorme, gros et gris.  Il a des petits oreilles et on le trouve en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472360" cy="3641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5516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éléphant asia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l est orange et noir.  Il est vite et on le trouve en Asie auss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89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tig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2349360"/>
            <a:ext cx="201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noir et blanc et il est timide.  Il a les yeux noirs.  On le trouve en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panda gé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556000" y="2133720"/>
            <a:ext cx="3967200" cy="29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lle est longue et bleue.  Elle est lente.  On la trouve dans la 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e baleine ble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44000" y="981000"/>
            <a:ext cx="64764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orange et grand.  On le trouve en Afr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5300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orang-out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381480" y="1790640"/>
            <a:ext cx="23810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l est assez grand, long et il a  einen une carapace brune.  On le trouve en As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508464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’est un tortue ma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3384360" cy="25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intenant à vou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112536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n le trouv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84464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n la trouv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64000" y="105264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friqu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1700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93080" y="4797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5589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énor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49417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t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558972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465300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55897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72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2924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rc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35640" y="3500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349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n Amér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407664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l est / elle 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20:47:48Z</dcterms:created>
  <dc:creator>Helena</dc:creator>
  <dc:description/>
  <dc:language>en-US</dc:language>
  <cp:lastModifiedBy>Helena</cp:lastModifiedBy>
  <dcterms:modified xsi:type="dcterms:W3CDTF">2010-10-22T18:27:26Z</dcterms:modified>
  <cp:revision>11</cp:revision>
  <dc:subject/>
  <dc:title>¿Qué es?</dc:title>
</cp:coreProperties>
</file>